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76F-8F25-4FC5-8BD7-F0FE0855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3DF-8019-4BB5-AC33-019BBF4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458-B438-42AE-BE3D-1E87CFC1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2DA-0C28-4F8C-90E1-D3E073AA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536-BAAB-48C0-84E3-D9BC98F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04C-BF90-46D8-B3E9-D054922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D56-758E-475B-B11E-6AF8E9B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06F-69E8-436E-914F-8C60C71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DF9-CB00-4801-9E8C-F19DE52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803-3200-4B10-8D56-D9CB6AC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B71-E491-4C2F-A5B1-AAC22A4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DE6-5ED9-490F-8261-CB06BB1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4C1A-00C1-4091-AC5D-B318EB06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6 Zrak viery upie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ty, slávy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dokon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hanbu vín si zmy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lh môj zapla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k trestu pozb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o mnou, Pane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a vyhľa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eba za mňa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om raz právo m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cesto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sni ma mrák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múti žia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zy mi zotie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slabej viere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večný domov p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i aj smrti m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avždy zastrieť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úfa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i môj Stvor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Teš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iac mať chce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33:30Z</dcterms:modified>
  <cp:revision>20</cp:revision>
  <dc:subject/>
  <dc:title>Je veľký náš Pán, on slávy je Kráľ Nech do všetkých strán  spev vrúcnych znie chvál.</dc:title>
</cp:coreProperties>
</file>